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B12F-B130-428C-9B0E-DB1604D4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9350A-AD36-484C-84EA-EF73AAF1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E427-499A-4D8E-80C5-E33796EE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5D48-6F9E-4A4F-B6BF-56A6D825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AAB-CE4E-4765-B504-AA2FC959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4A36-36FA-4F85-88F2-87CF2A5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15C3-C799-402A-9820-A92315A1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1497-2B21-4EA5-9A53-838EDA8C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233-E598-41B4-BD93-263A7731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A9ED-34FE-4E6A-B2D3-58B16216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DE33-4EC6-4CDE-8765-C8A424B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D4E2-1995-4988-93EF-CA682E71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7D5E-2731-45AC-99B8-AC73FCE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888-0770-4B99-AF6F-1319499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0EDA-666F-456C-9B4B-C6302D1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4512-5A4C-4238-8AEE-461C62AE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AA28-E53D-46EC-ACC4-B0FD7B38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C73A-03BD-4920-AB67-B1AE9E10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13E4-953A-4249-8614-FD98521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04E6-BE05-4EBC-B69A-BBDF77E0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F394-F03D-4DB6-B136-528D1BC4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6A1E-F818-4E49-8F11-11FA628F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C8D8-7266-4FA6-A4E8-91E598A3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9837-027D-4493-9761-19573F02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739-F9D0-4BA4-805B-3D4A0EDE5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1A47-3A70-47BE-89A0-42BA8DE90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 Sent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players begun wearing safety gear football produced so many injuries that colleges often banned the ga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im brown hold the nfl record for touchdowns, having one hundred twenty-six to his cre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Journal #9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your own dictionary for 10 words that you and your friends u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rm-Up Sent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wing tobacco for exampel causes mouth and throat concers as well as painful progressive tooth and gum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s. Walker asked “Class how would you rank the following qualities honesty kindness, love, achievment, self esteem, loyalty and financial success”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Journal #10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you think the world will be like in 2060? 3060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Friday Warm-up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vice/Adv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vic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(noun) helpful suggestion or opin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) You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dvic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is always welcome because you have good idea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dvis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(verb) to offer advice or sugges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) Stan’s lawye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dvise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him to remain silent under questioning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581280"/>
            <a:ext cx="8763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the proper word to make the sentence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My (advice, advise) to you is to calm down and count to 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It is always easier to give (advice, advise) than to follow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Bill is quick to offer his (advice, advise) on any su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I strongly (advice, advise) you to check your French home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36:59Z</dcterms:created>
  <dc:creator>tpagel</dc:creator>
  <dc:description/>
  <dc:language>en-US</dc:language>
  <cp:lastModifiedBy>tpagel</cp:lastModifiedBy>
  <dcterms:modified xsi:type="dcterms:W3CDTF">2010-06-03T16:38:17Z</dcterms:modified>
  <cp:revision>1</cp:revision>
  <dc:subject/>
  <dc:title>Warm-Up Sentences</dc:title>
</cp:coreProperties>
</file>